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107A-6E86-40CA-9FB1-447331C6D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6FDD-ED94-438A-8CF4-3CF05BAC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2BB1-0BDE-401E-BFC9-26DC790EC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E81B-037C-4871-9FD8-6CA260B27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3ED17-8CA2-46EC-9619-892262C5F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4949-6C25-490B-AB71-59D25E4F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CE9C-5522-4829-BCA1-7C1CE791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F799-E66F-466D-B380-E91BCB9C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4FEE1-6333-43D1-B73F-2AEFA219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38B4-C563-4EA2-9067-2FF398E3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CBFF-60FE-4868-8AB3-B302B297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6949-A1B9-455C-9948-9A84128E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2056-9B30-451C-BF1E-8206BC28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2B5A-6F19-46BB-A689-3216A6AC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38BE-C0D6-420E-9A38-0E8CA38A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F408-9CB2-4203-816C-B63AA53F7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2AA54-D92A-4D6E-AEDF-04AA7B76C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4BF2-58AD-42DE-938B-7AEFA92A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A269-5159-424B-87A2-D52FB299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8D60-2E10-4F08-910C-B702681D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4C1D-C047-4CEC-909D-7B1EE0E9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8E2E-8F6A-4BFF-8733-BA2B0F39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4260-846C-4ACD-91CC-47E0EC07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BEA7-8594-47E3-8964-D6E67B1B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139A-363A-4E6B-8E35-17D6DAA712C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EC60-BC37-4575-AC8D-0BB4429AD76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Century Gothic"/>
              </a:rPr>
              <a:t>After-School Programs and its </a:t>
            </a:r>
            <a:br>
              <a:rPr sz="3600"/>
            </a:br>
            <a:r>
              <a:rPr b="0" lang="en-US" sz="3600" spc="-1" strike="noStrike">
                <a:solidFill>
                  <a:srgbClr val="808080"/>
                </a:solidFill>
                <a:latin typeface="Century Gothic"/>
              </a:rPr>
              <a:t>Effects on Academic Achie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819520" y="3429000"/>
            <a:ext cx="3504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ff"/>
                </a:solidFill>
                <a:latin typeface="Arial"/>
              </a:rPr>
              <a:t>Jennie Kw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ff"/>
                </a:solidFill>
                <a:latin typeface="Arial"/>
              </a:rPr>
              <a:t>Ed 702.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ff"/>
                </a:solidFill>
                <a:latin typeface="Arial"/>
              </a:rPr>
              <a:t>Fall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523880" y="2514600"/>
            <a:ext cx="1141560" cy="3429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1143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entury Gothic"/>
              </a:rPr>
              <a:t>Table of Conte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man Old Style"/>
              </a:rPr>
              <a:t>Statement of the Proble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man Old Style"/>
              </a:rPr>
              <a:t>Review of Related Literat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man Old Style"/>
              </a:rPr>
              <a:t>Statement of Hypothes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057400" y="3657600"/>
            <a:ext cx="5257800" cy="277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Century Gothic"/>
              </a:rPr>
              <a:t>Statement of the Proble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o an increase number of parents entering the work force, there is a great need to place children in after-school programs that enrich their academic and social development. After-school programs can focus on academics or recreational. However, it is not clear which after-school program promotes academic achievement. This study will focus on the following question: Which type of after-school program is beneficial to students’ academic achiev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entury Gothic"/>
              </a:rPr>
              <a:t>Review of Related Literatu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articipation in after-school programs are associated with higher grades and test scores, esp. in low-income students. (Posner &amp; Lowe, 1994; Pierce, Hamm, &amp; Vandell, 1999; Miller, 2001; Viadero, 20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articipation in after-school programs gave students greater confidence in their academic abilities and provides an opportunity to develop positive, school-related, adult attachments. (Beck &amp; Halpern, 1992; Posner &amp; Lowe, 1994; Cosden, Morrison, Alabanese, &amp; Macias, 2001; Halpern, 1999; Pierce, Hamm, &amp; Vandell, 1999; Miller, 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entury Gothic"/>
              </a:rPr>
              <a:t>Review of Related Literatu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Research concludes the following regarding after-school programs: youth benefit from consistent participation in quality after-school programs, after-school programs can increase engagement in learning, can also increase educational equity (which provides disadvantaged youth opportunities and experiences that are available to middle and upper class students), and after-school programs build key skills (teamwork, problem solving, communication) necessary for success in today's world. (Miller, 200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57400" y="3962520"/>
            <a:ext cx="51055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entury Gothic"/>
              </a:rPr>
              <a:t>Review of Related Literatu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owever, after-school programs can interfere with a child’s commitment to their family and community. It can also reduce parental involvement in their child’s academic process. (Cosden, Morrison, Alabanese, &amp; Macias, 2001; Cosden, Morrison, Gutierrez, &amp; Brown, 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 study by Vandell &amp; Corasaniti reported middle class children who attended after-school had poorer grades and test scores and were more likely to be rejected by their classmates. (Vandell &amp;Corasaniti, 1988 &amp; 199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entury Gothic"/>
              </a:rPr>
              <a:t>Review of Related Literatu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fter-school programs can restrict their opportunity to participate in enrichment activities like scouts, music lessons, organized sports that are available to middle-class children. (Posner &amp; Lowe, 199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Common challenges facing after-school programs: facilities, staffing, and financing. (Halpern, 199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More research is needed in order to find out whether recreational after-school programs benefit students’ academic performanc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42498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entury Gothic"/>
              </a:rPr>
              <a:t>Statement of Hypothes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 comparing academic and recreational after-school programs, 3rd, 4th, and 5th graders attending an academic after-school program will yield better academic results than those attending a recreational after-school progr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819520" y="3962520"/>
            <a:ext cx="38098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16:31:06Z</dcterms:created>
  <dc:creator> Jennie</dc:creator>
  <dc:description/>
  <dc:language>en-US</dc:language>
  <cp:lastModifiedBy> Jennie</cp:lastModifiedBy>
  <dcterms:modified xsi:type="dcterms:W3CDTF">2008-10-21T16:15:44Z</dcterms:modified>
  <cp:revision>12</cp:revision>
  <dc:subject/>
  <dc:title>After-School Programs and its  Effects on Academic Achievement</dc:title>
</cp:coreProperties>
</file>